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126-4C6F-4522-9F0F-DC161DD5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5D7-8486-4CD1-AEB1-E7605A3C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260-AE9A-4A36-A581-6A4456C5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909-29F0-4292-A731-6C8D47B1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99FF-E2EA-4585-A2E0-B92F8F26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B186-3508-48AA-AE28-77AE9987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43DA-1438-442C-9831-C940FF00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17C3-D336-44B5-AF8F-DCA4A383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8024-1510-458D-9739-1DAFAF0A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44B4-2A8B-46EF-8A89-319ABE39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3216-95C7-4965-8A56-738818E0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C14-6766-4B32-9280-42973AD1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640E-960A-424A-AC84-57920D14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09D9-9587-475E-916C-4FD8EC92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49D5-AED6-4F97-9BBE-0F139159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2237-2E04-4581-AA16-93606629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E3F5-009A-47AA-860E-1224070B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DF1-C280-4D50-9CBF-662EA21F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A06-73C4-4B9C-A4A5-78769AC1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E76-59C4-4C28-9AC1-F2649286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E06-363D-47A8-BDA1-51C7DA9C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28E0-FAED-43C7-96E2-52D67BF0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507-3ECB-4ECD-8E6B-C47785F8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BAF-072A-40DC-A47D-5C0C8240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F708-2EB8-416F-A5EB-2AC44955427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C245-18E9-4C93-A482-8D7B25B8F82F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Recovery of Partial Failure </a:t>
            </a:r>
            <a:br>
              <a:rPr sz="4000"/>
            </a:b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in P2P Compu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Pieter Verhey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pverheyd@vub.ac.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We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MeetingPlanner afwerk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concurrentie problemen oplo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toevoegen van extra functionalit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KDE-UI voor MeetingPla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Stage Plan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Maand 1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MeetingPlanner implementeren in Bor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Maand 2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UI voor MeetingPlanner onder K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Maand 3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Research naar replicati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Case: MeetingPlan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MPAgent (persoon/plaa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MeetingAgent (me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Agent kan meetings plannen met agent(s) op een bep. datum met begin- en eindtijdstip, en met een bep. aanwezigheidspercentage, onderwerp en pla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MPAgent maakt een MeetingAgent aan die de meeting verzorg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The Big Blo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Proble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Wat als een deel van het P2P netwerk wegvalt zodat 1 of meerdere agents (MPAgents en/of MeetingAgents) uitvallen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Oploss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Blob syste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Zonder Blo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3809880"/>
            <a:ext cx="83844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5360" y="39625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495288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27432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9360" y="28954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10552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895480" y="3352680"/>
            <a:ext cx="16002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4419720"/>
            <a:ext cx="1676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Zonder Blob: Probl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3809880"/>
            <a:ext cx="83844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5360" y="39625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495288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27432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69360" y="28954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510552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895480" y="3352680"/>
            <a:ext cx="16002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419720"/>
            <a:ext cx="1676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49528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48320" y="495252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Zonder Blob: Probleem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3809880"/>
            <a:ext cx="83844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5360" y="39625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495288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27432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69360" y="28954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510552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895480" y="3352680"/>
            <a:ext cx="16002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4419720"/>
            <a:ext cx="1676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3809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057400" y="380952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Met Blob: Replica’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3809880"/>
            <a:ext cx="838440" cy="762120"/>
          </a:xfrm>
          <a:prstGeom prst="ellipse">
            <a:avLst/>
          </a:prstGeom>
          <a:solidFill>
            <a:srgbClr val="caf2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05360" y="39625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4952880"/>
            <a:ext cx="838080" cy="762120"/>
          </a:xfrm>
          <a:prstGeom prst="ellipse">
            <a:avLst/>
          </a:prstGeom>
          <a:solidFill>
            <a:srgbClr val="caf2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2743200"/>
            <a:ext cx="838080" cy="762120"/>
          </a:xfrm>
          <a:prstGeom prst="ellipse">
            <a:avLst/>
          </a:prstGeom>
          <a:solidFill>
            <a:srgbClr val="caf2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69360" y="28954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510552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895480" y="3352680"/>
            <a:ext cx="16002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4419720"/>
            <a:ext cx="1676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472428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510552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396252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320040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281952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4382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266688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2819520"/>
            <a:ext cx="7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205740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198108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259092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358128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548640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01992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586728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502920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426708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5120" y="449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4191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36576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87720" y="32004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6840" y="396252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64040" y="472428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A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02120" y="510552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A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486400" y="28954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181480" y="243792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2514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46800" y="26668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04000" y="20574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94720" y="19810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80520" y="2590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B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51920" y="3581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B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10080" y="3429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571464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48640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409720" y="5562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181480" y="46483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43400" y="55623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74640" y="426708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36760" y="502920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31840" y="586728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1480" y="601992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79360" y="548640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Met Blob: Replica’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3809880"/>
            <a:ext cx="838440" cy="762120"/>
          </a:xfrm>
          <a:prstGeom prst="ellipse">
            <a:avLst/>
          </a:prstGeom>
          <a:solidFill>
            <a:srgbClr val="caf2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05360" y="39625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4952880"/>
            <a:ext cx="838080" cy="762120"/>
          </a:xfrm>
          <a:prstGeom prst="ellipse">
            <a:avLst/>
          </a:prstGeom>
          <a:solidFill>
            <a:srgbClr val="caf2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2743200"/>
            <a:ext cx="838080" cy="762120"/>
          </a:xfrm>
          <a:prstGeom prst="ellipse">
            <a:avLst/>
          </a:prstGeom>
          <a:solidFill>
            <a:srgbClr val="caf2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69360" y="28954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510552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95480" y="3352680"/>
            <a:ext cx="16002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4419720"/>
            <a:ext cx="1676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472428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510552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396252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20040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281952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4382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266688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2819520"/>
            <a:ext cx="7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205740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198108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259092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358128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548640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601992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8680" y="586728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502920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426708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905120" y="449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4191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36576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87720" y="320040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6840" y="396252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64040" y="472428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A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02120" y="510552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A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911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486400" y="28954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181480" y="243792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2514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46800" y="26668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4000" y="20574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94720" y="19810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80520" y="2590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B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51920" y="3581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B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3429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952880" y="571464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48640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5409720" y="5562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181480" y="46483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343400" y="55623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74640" y="426708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36760" y="502920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1840" y="586728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1480" y="601992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79360" y="548640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464832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371600" y="464796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1981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114800" y="19810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867280" y="2514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24280" y="4876920"/>
            <a:ext cx="7621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724280" y="487656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7:14:03Z</dcterms:created>
  <dc:creator>verheyden</dc:creator>
  <dc:description/>
  <dc:language>en-US</dc:language>
  <cp:lastModifiedBy>verheyden</cp:lastModifiedBy>
  <dcterms:modified xsi:type="dcterms:W3CDTF">2001-11-16T06:44:29Z</dcterms:modified>
  <cp:revision>34</cp:revision>
  <dc:subject/>
  <dc:title>Recovery of Partial Failure  in P2P Computing</dc:title>
</cp:coreProperties>
</file>